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538-CB0E-4937-BE69-385AA07A2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1EC5-E04F-42F2-B424-890D8BF2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70FE-83E3-4CBB-8585-E6100A4CA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662-140D-4F67-ADDF-95354A7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4A7-2AF5-40AC-B2FD-6B0F3A6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B12-3F1D-4866-9D42-5A54E399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035-552B-4F01-831E-2EAE920B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40C-4357-42DA-9212-24077DF4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444-24E4-4487-B738-45AE85F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612-372A-4F73-A1D9-2A1C9BD2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D6B-3ACC-4CD2-AF7E-5FBD806C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46D-6D1D-4AC9-80E6-31F0DC0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E42-ACC7-49A3-A2F7-B81F1AD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E4F-578A-443E-BD32-99F01C1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226-A1FF-4252-96EB-202A873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9306-9850-443C-88EA-87F4C81EC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880" y="304920"/>
            <a:ext cx="85345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esente de indicativo expresa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tienen lugar en el momento en que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b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arlitos estudia en el instit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esente de indicativo expresa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ocurren frecuentem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arla nunca desayuna por la mañ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e expresar acciones fu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l verano que viene mis amigos se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acaciones a Nicar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/GIR---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ir        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o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er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o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ir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er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ros 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er                         que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v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bos Irregula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mbio radical)- pres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verbos con cambio radical en la raiz se les conoce como “verbos bo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 llaman asi por que su raíz cambia de una vocal a dos voc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o saber cual vocal camb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Busca la raíz del verb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 el ejemplo 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nzar   --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Com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Ra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666880" y="3657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Encuentra la vocal que está la más cerca al final de la  raíz  que has encontr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48320" y="289548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Cambia la vocal 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-&gt;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&gt;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&gt;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z</a:t>
            </a:r>
            <a:br>
              <a:rPr sz="36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co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zo, tu co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----i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n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e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er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48320" y="1600200"/>
          <a:ext cx="4038480" cy="224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8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41"/>
          <p:cNvSpPr/>
          <p:nvPr/>
        </p:nvSpPr>
        <p:spPr>
          <a:xfrm>
            <a:off x="457200" y="1523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---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3200400" cy="21337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e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é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9"/>
          <p:cNvSpPr/>
          <p:nvPr/>
        </p:nvSpPr>
        <p:spPr>
          <a:xfrm>
            <a:off x="5715000" y="1125360"/>
            <a:ext cx="44956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o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o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mor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ñ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r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--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3352680" cy="207324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35"/>
          <p:cNvSpPr/>
          <p:nvPr/>
        </p:nvSpPr>
        <p:spPr>
          <a:xfrm>
            <a:off x="6019920" y="1600200"/>
            <a:ext cx="27432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e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stir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ír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reír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e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forma los verbos sigu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48320" y="1600200"/>
          <a:ext cx="4038480" cy="251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or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u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rda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er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rdá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e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er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648320" y="3809880"/>
          <a:ext cx="4038480" cy="2316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5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í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 rí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reí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 rí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 re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í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í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5800" y="3048120"/>
          <a:ext cx="3429000" cy="158436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ie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ende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en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endé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e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en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6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i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tiempo prese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419720" y="2666880"/>
          <a:ext cx="2057400" cy="12193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419720" y="1219320"/>
          <a:ext cx="2057400" cy="1218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é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3520" y="4191120"/>
          <a:ext cx="1676160" cy="1258920"/>
        </p:xfrm>
        <a:graphic>
          <a:graphicData uri="http://schemas.openxmlformats.org/drawingml/2006/table">
            <a:tbl>
              <a:tblPr/>
              <a:tblGrid>
                <a:gridCol w="685800"/>
                <a:gridCol w="990360"/>
              </a:tblGrid>
              <a:tr h="312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3520" y="2666880"/>
          <a:ext cx="1676160" cy="12193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362320" y="4191120"/>
          <a:ext cx="1828800" cy="12189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í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í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y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362320" y="1219320"/>
          <a:ext cx="1676160" cy="124776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326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362320" y="2666880"/>
          <a:ext cx="1752480" cy="121932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520" y="1219320"/>
          <a:ext cx="1676160" cy="121896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formas irregular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ólo en la forma Y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—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erb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distin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r                 ca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              ha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               pon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r                 sal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er                tra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r                val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/CIR---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ce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cer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decer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d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ce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uci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u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pasa con estos verb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op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ha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pare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838080" y="1905120"/>
            <a:ext cx="1704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conozc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6934320" y="1828800"/>
            <a:ext cx="1199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pon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914400" y="3581280"/>
            <a:ext cx="13906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ha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6781680" y="5334120"/>
            <a:ext cx="1533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pon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4191120" y="1905120"/>
            <a:ext cx="1133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ha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WordArt 9"/>
          <p:cNvSpPr txBox="1"/>
          <p:nvPr/>
        </p:nvSpPr>
        <p:spPr>
          <a:xfrm>
            <a:off x="6095880" y="3276720"/>
            <a:ext cx="2095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parezc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762120" y="5486400"/>
            <a:ext cx="1704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pon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WordArt 11"/>
          <p:cNvSpPr txBox="1"/>
          <p:nvPr/>
        </p:nvSpPr>
        <p:spPr>
          <a:xfrm>
            <a:off x="3124080" y="3124080"/>
            <a:ext cx="11718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rai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4114800" y="4495680"/>
            <a:ext cx="1562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trai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7:27:52Z</dcterms:created>
  <dc:creator>cderrane</dc:creator>
  <dc:description/>
  <dc:language>en-US</dc:language>
  <cp:lastModifiedBy>Jessica Kaplan</cp:lastModifiedBy>
  <dcterms:modified xsi:type="dcterms:W3CDTF">2011-12-06T14:01:50Z</dcterms:modified>
  <cp:revision>17</cp:revision>
  <dc:subject/>
  <dc:title>Slide 1</dc:title>
</cp:coreProperties>
</file>